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0D2-83A8-4A52-B9BE-F91AA174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4D05-05FE-4220-A636-697344BE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AB8-F0E4-460C-A9A6-302E2144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ADE-D654-40DE-8D39-DE49A5804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CE4F-65ED-4D9B-B0BB-3C31E6E4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C409-E473-4034-839D-2D61530B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28D-0186-4C07-A975-4470FE2C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D92-0FB7-4493-98A0-B676C447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1F55-FE72-47F7-AC6B-86E7F00C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E0EA-C91F-4D70-A44B-918D0137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046-784B-4FA3-BA9A-8F5A42F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E8B0-8824-4725-AE3F-04C01530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7507-046F-4B59-809C-9D9DC31DB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62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ading Not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53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5867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hapter 7 Reading Notes:  The American R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14600" y="0"/>
            <a:ext cx="442764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6 The Tide Begins to 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As the war progressed, how did Washington revise his military strate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shington avoided large battles that might put his army at risk. Instead, he fought a defensive war that was designed to tire ou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Why did the American cause look more hopeful after the Battle of Sarato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 the Battle of Saratoga, the French agreed to become allies of the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3. Name two foreigners who were present with the Americans at Valley Forge, and explain how they helped the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aron Friedrich von Steuben of Prussia continually drilled the American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arquis de Lafayette of France used his own money to buy warm clothes for the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643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.7 The War Goes S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1. What tactics did the Americans use successfully against the British in the Southern Colon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mericans in the South used guerrilla tactics, like hit-and-run raids, against the Britis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2. How did the success of the Continental Army in the South contribute to the American victo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uccess of the Americans in the South tired out the British and eventually forced them to retreat to Yorktown, where they were defe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3. How did the French help the Americans in the Battle of York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rench troops and warships helped the Americans to trap the British army at Yorkt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549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7.8 The War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1. How did the British people respond to news of the Battle of Yorktow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st British were tired of the war, but King George did not want to accept defe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2. What were three key provisions of the Treaty of Par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itain recognized the United States as an independent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ritain handed over territory from the Atlantic Coast to the Mississippi R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United States agreed to return all rights and property taken from Loyalists during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03848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2 American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. List three weaknesses of the Americans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Continental Army was very small and always short of sold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ew Americans were trained for batt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army was plagued by shortages of guns, gunpowder, food, and unifo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. Besides patriotism, list two American strengths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Americans received secret aid from the Fren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orge Washington was an experienced military leader who inspired courage and conf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433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3 British Strengths and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List three strengths of the British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British Army had 50,000 soldiers, reinforced by 30,000 Hessian mercenaries, as well as Loyalists, Native Americans, and African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itish soldiers were well trained and experienced, compared to the Americ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itish forces were well supplied with food, uniforms, ammunition, and weap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List two weaknesses of the British at the start of the w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nding troops and supplies from Britain to America was slow and cos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British had poor Generals assigned to Amer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4 Britain Almost Wins the W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Why did the Declaration of Independence increase Americans’ motivation to fight and win the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y Americans believed that freedom and the chance to create their own country were goals worth fighting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For which group of Americans did the Declaration of Independence raise hopes as well as questions? Why?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Declaration of Independence raised hopes and questions for African Americans; they wondered if the words “all men are created equal” applied to them, and whether independence would bring an end to sla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3. What factors allowed the British to almost win the war in 1776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British, with their greater numbers and superior training, overwhelmed the inexperienced Americans at New York and in other battles in 17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7.5 A Pep Talk and Surprise Vict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1. In your own words, what was the message of Thomas Paine’s pamphlet The Cris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message of Thomas Paine’s pamphlet The Crisis was to remind Americans that real patriots hold onto their beliefs, even in hard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2. How were the Americans able to win such an overwhelming victory at Trent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shington had his troops cross the Delaware River on Christmas night and take the enemy by surprise early the next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3. How did victories at Trenton and Princeton affect American mora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ictories at Trenton and Princeton showed that the Americans could beat the British and their allies, and greatly boosted American mor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4T16:09:01Z</dcterms:created>
  <dc:creator>Property of</dc:creator>
  <dc:description/>
  <dc:language>en-US</dc:language>
  <cp:lastModifiedBy>Property of</cp:lastModifiedBy>
  <dcterms:modified xsi:type="dcterms:W3CDTF">2010-12-16T17:42:36Z</dcterms:modified>
  <cp:revision>26</cp:revision>
  <dc:subject/>
  <dc:title>Reading Notes 7</dc:title>
</cp:coreProperties>
</file>